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BB9C-4901-41FB-B11A-709A1D96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747-6F45-4AB4-B0B1-A61C8450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2557-0773-473C-9D78-7509BF5B5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515-D6A9-4CAE-A0BA-97EE3F7F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2817-9E9D-4405-BE5C-7912FB01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5A34-B081-48ED-8D5D-B44A0ED07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1E58-9448-4FBF-B508-4E21B824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41427-88EF-42D5-B0DA-61874104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3890-BC4E-4C4B-B2C0-A6978DF2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05B4-D0CB-47E0-82E9-C75B6918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26E0B-04F9-474F-B0C8-DFB897B1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139-3986-48EB-9CF6-869EDEF69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D79F2-5B5E-4DAB-8D31-B9C82D58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79736-765E-40F5-B432-834F3649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4C5F-4456-415E-A2B1-3E93C59D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7A6F-FCC3-459D-95ED-8D841F72E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1BB9-82CC-4607-8B7F-116CAD315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DE10-CC25-4249-971E-B6685646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36D9-0292-428C-AA2C-BAEF7100D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4CAC-4072-436B-A5BA-810F2E5E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582-C624-477A-8002-FBD14A71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454B-F0AE-4DA0-85F8-72DEA573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8CE0-C6D8-48C3-8159-45572409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340F-0F23-4E78-84A3-83C31637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208B-9BD3-4383-BA24-37F9DEEF0C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2F28-08FD-4E0E-8252-70FB089026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362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Адаптационные изменения при физиологической беремен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Частота сердечных сокращений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 время беременности наблюдается физиологическая тахикард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СС достигает максимума 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иместре беременности и составляет 80-95уд/м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9328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Минутный объем сердца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 сердца во время беременност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30-50%, достигая максимума на 25—30-й неделе беременности, затем постепенно уменьшается—и  ко времени родов возвращается к исходн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н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-45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ax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26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30-й нед повышение МОС прекращается,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38—40-й неделе он возвращается к исходном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 левого желудочк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50%,достигая максимума в 29-32 нед,  затем работа левого желудочка постепенно снижается и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иместре превышает исходную величину (у небеременных)  на 10%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Нагрузка на сердце у беременных повышается не только в результате увеличения сердечного выброса, массы циркулирующей крови, общей массы, но и вследствие некоторого смещения сердца, повышения внутрибрюшного давления и более высокого стояния диафрагмы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ускультац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столический шум на верхушке у 50% беременны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столический шум на  легочной артерии  у 10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иление и  расщепле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о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цент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она на легочной артер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ЭКГ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лектрическая ось сердца отклоняется влево приблизительно на 15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зможен ряд изменений на ЭКГ: укорочение интервал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менения комплекса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RS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виде увеличения амплитуды зубца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в отведениях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) и некоторого увеличения зубца 5 (в отведениях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; иногда бывают инверсия зубц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Т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в отведениях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)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снижение сегмента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T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и отклонения связывают с изменением позиции сердца и его поперечным поворотом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ьтате поднятия диафраг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гут нарушаться возбудимость и проводимость сер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чной мышцы, в результате чего возникают аритм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Эхокардиография, рентгенограф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 время беременности увеличивается масса миокарда и размеры различных отделов сердца ( увеличиваются левое предсердие и левый желудочек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рентгенологическом исследовании выявляется изменение контура сердца, напоминающее митральную конфигурац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Гемодинамические изменения в рода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Во время схваток и особенно потуг АД повышается, АД снижается после разрыва плодного пузыря и рождения ребен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 большинства рожениц схватки сопровождаются тахикардией, у 25% наблюдается брадикардия, может возникать неполная и полная атриовентрикулярная блокада, экстрасистол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Эти отклонения объясняются повышением возбудимости проводящей системы сердца из-за высокого содержания в крови стероидных гормонов и увеличения выброса в кровь ацетилхолина во время сокращения мат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11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 время каждой схватки МОС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на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0—30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%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дарный объе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0-50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л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бота левого желудочка в схватку в первом периоде родов нарастает на 37,8% по сравнению с концом беременности, во втором периоде родов — на 92,8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благополучного исхода родов большое значение имеет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ункциональное состояние правых отделов сердца, особенно правого_ предсердия, так как на него ложится наибольшая нагрузка— прием и перекачивание в желудочек крови из огромного резервуара, каким является матка в последовом период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80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л кров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даптация коллоидно-осмотического состояни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220464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моляльность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10мосм/кг воды к 20-22нед (вне беременности 291мосм/кг воды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держание натрия, калия, хлора, магния, кальция, фосфата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ллоидно-онкотическое давление (КОД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о 24 мм рт с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max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в 30-34 нед (у небеременных составляет – 26-28 мм рт ст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юкоза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о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2-3.8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моль/л (вне беременности 4,5-5,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чевин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о 4,3-4,0ммоль/л (вне беременности – 4,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иперлипидемия до 1,0г/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ле родов КОД снижается еще больше, что особенно опасно при терапии кристаллоидами вследствие развития интерстициального отека легки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даптация функции внешнего дыхан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требление кислорода к концу беременности увеличивается на 30-40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противление дыхательных путей снижается в 1,5раз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следствие ограничения экскурсии диафрагмы во время беременности увеличивается частота дыхания ( на 10%)  и дыхательный объем (на 30-40%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итоге минутный объем дыхания повышается с 8,4л/мин до 11,1/мин. Увеличение дыхательного объема происходит за счет снижения резервного объема выхода. ЖЕЛ остается прежн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Нормой беременности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следует считать среднестатистические показатели гомеостаза и функциональных тестов, характерных для неосложненного течения беременности у практически здоровых женщин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аждому триместру беременности характерны свои нормы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даптация гемостаза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Гемостаз зависит от состояния сосудистой стенки, тромбоцитов, факторов свертывания и фибринолиз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менения количества, функции и длительности жизни  тромбоцитов у беременных не выявлен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мечается повышенная активность факторов свертывания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акторов) с 3ме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ень фибриногена повышаетс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бринолитическая активность плазмы снижается во время беременности, становится наименьшей  в период родов  и возвращается  к исходному через 1 час после рождения плацент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цента содержит ингибиторы, блокирующие фибринолиз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Влияние беременности на функцию почек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 время беременности отмечается увеличение скорости почечного кровотока и гломерулярной фильтрации, осмотического клиренса с 500 до 700 мл/мин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жедневно фильтруется почти 100л жидкост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результате повышенной гломерулярной фильтрации и увеличенного объема плазмы уровень креатинина в сыворотке крови снижен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центрация мочевой кислоты в сыворотке снижен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 время беременности возможно появление ортостатической  протеинурии у 20% беременных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ругими физиологическими изменениями при беременности могут быть глюкозурия (до 140мг/сутки) и лактозур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 время беременности увеличивается емкость мочевых путей, создаются условия для застоя и инфицирования моч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-464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триместре беременности примерно у 60% женщин создаются условия для возникновения патологических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флюкс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связи с нарушением нервно-мышечного тонуса мочеточникового усть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 время беременности имеется: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ипотония, гипокинезия, дискинез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очевых путей вследствие изменения гормонального баланса в организм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ысокий уровень прогестерона усиливает активность бета-рецепторов, вызывая гипотонию и дискенезию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ысокий уровень эстрогенов, снижая альфа-рецепторную зависимость приводит к тем же нарушения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следствие тесной нейрогенной связи верхних отделов мочевыводящих путей с сосудами почек возникшие динамические нарушения влекут за собой гемодинамические изменения в почке. Снижение тонуса почечных вен приводит к одновременному спазму артерий, что приводит к гипоксии и еще сильнее усугубляет расстройства уродинами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мк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очевого пузыря  и внутрипузырное давление не меняютс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Влияние беременности на функцию печени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Гистологически выявлено увеличение содержания гликогена и жировых отложений в клетках пече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ень белка в сыворотке крови снижается, к родам он может достигать 60г/л имеется снижение уровня альбуминов и увеличения альфа-и-бетта – глобулинов. Результатом изменений в составе белков сыворотки является увеличение СО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оценке б/х состава плазмы наиболее характерно увеличение щелочной фостфатазы  (с 26 до 75 МЕ против 25 МЕ у небеременных), прямого билирубина (до 0,5-3,0 ммоль/л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Анатомия женских половых орга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Женская половая систем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кладывается из парных яичников и маточных труб, матки, влагалища, наружных половых органов, а также молочных желёз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Функция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женской половой системы —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репродуктивна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ичник — герминативна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овогенез, овуляция) 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ндокринна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синтез и секреция эстрогенов и прогестерон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точная труба — транспортна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родвижение овулировавшей яйцеклетки в полость матки, оплодотворение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тка — вынашивание пло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нал шейки матк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лагалище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одовые пу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лочная железа — вскармливание ребён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Овариально менструальный цикл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2640" y="1773000"/>
            <a:ext cx="8631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вариальный цик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продолжение овогенеза (фазы роста и созревания фолликула), овуляция, формирование жёлтого тела. Овариальный цикл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регулирую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ипофизарные гонадотропин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фолликулостимулирующий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ФСГ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лютеинизируюший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ЛГ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рмо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нструальный цик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характерные изменения слизистой оболочки матки, имеющие целью возможность имплантации и без наступления последней заканчивающиеся отторжением части эндометрия (менструация). Все фазы менструального цикла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контролируют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рмоны яичника —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строген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гестеро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ругие орган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стемы (маточные трубы, канал шейки матки, влагалище, молочные железы) также подвергаются изменениям в рамках овариального цик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8332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Наружные половые органы: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лобок, большие и малые половые губы, клитор, преддверие влагалища и промежность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Лобок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ли лонный бугор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mons pubis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mons veneris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еугольная площадка нижней части передней брюшной стенки с хорошо развитой жировой клетчаткой и оволосением по женскому тип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ольшие половые губы 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labia majora pudendi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две кожные складки по боковым сторонам половой щели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ima pudendi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)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толще губ расположены венозные сплетения, жировая клетчатка и большие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бартолиновы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елезы преддверия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glandulae vestibulares majores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glandulae vestibulares Bartholini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ереди большие половые губы соединены спайкой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mmisura labiorum anterior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)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зади на границе с промежностью большие половые губы сливаются, образуя заднюю спайку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mmisura labiorum posterior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разведении губ задняя спайка напрягается, и становится видна тонкая поперечная складка — уздечка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enulum labiorum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зади от неё расположено углубление — ладьевидная ям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ossa navicularis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Малые половые губы (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labia minora pudendi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дний край каждой малой половой губы расщепляется спереди на две ножки. Передние ножки обеих малых губ сливаются над клитором, образуя его крайнюю плоть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putium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дние ножки соединяются под клитором, образуя уздечку клитора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renulum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даптация сердечно-сосудистой системы при беременности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иперволемическая аутогемодилюц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еличение сердечного выбро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ышение частоты сердечных сокращ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ышение венозного дав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ижение ОПС сосуд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литор 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(с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lit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о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оит из двух пещеристых тел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rpora cavernosa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ращённых с помощью ножек с нисходящими ветвями лобковых костей. Сходясь у нижнего края лонного сочленения, ножки образуют тело клитора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rpus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еющее округлую форму и заканчивающееся снаружи головкой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lans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еддверие влагалища 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vestibulum vaginae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2017440"/>
            <a:ext cx="84866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странство, ограниченное сверху клитором, снизу и сзади — задней спайкой больших половых губ, с боков — малыми половыми губами; дно преддверия влагалища образует девственная плева. С преддверием сообщаются влагалище, наружное отверстие мочеиспускательного канала и выводные протоки парауретральных (малых) и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бартолиновых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больших) желёз. Девственная плева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ymen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положена на границе между преддверием влагалища и влагалище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омежность 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perineum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жно-мышечно-фасциальная пластинка, расположенная между задней спайкой больших половых губ и копчиком. Фасции и мышцы промежности составляют тазовое д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214200"/>
            <a:ext cx="8475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Внутренние половые органы: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влагалище, матка и придатки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лагалищ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vagina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растяжимый фиброзно-мышечный орган длиной 7-9 см, начинающийся от входа во влагалищ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roitus vaginae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оканчивающийся сводом влагалища. Стенка влагалища состоит из трёх оболочек (слизистая, мышечная, адвентициальная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3440" y="188640"/>
            <a:ext cx="84405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Влагалище.Слизистая оболочка: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многослойный плоский эпителий и собственный слой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пителий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ногослойный плоский эпителий изнутри кнаружи состоит из базальных, промежуточных и поверхностных клеток. Эпителий подвергается частичному ороговению (поверхностные клетки содержат гранулы кератогиалина). В пролиферативную фазу менструального цикла в эпителии накапливается значительное количество гликогена. Гликоген используется влагалищной микрофлорой, а образующаяся при этом молочная кислота препятствует размножению патогенных микроорганизмов.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лагалищный мазок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зависимости от фазы менструального цикла в мазке преобладают разные эпителиальные клетки: базальные, парабазальные, промежуточные, ладьевидные, поверхностные, ороговевающ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332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Влагалище.Слизистая оболочка: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многослойный плоский эпителий и собственный слой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Собственный слой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волокнистой соединительной ткани собственного слоя присутствуют лимфоциты, зернистые лейкоциты, иногда обнаруживаются лимфатические фолликул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8332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Влагалище.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Строение стенки влагалища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ышечная оболочк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оит из двух слоев ГМК. Внутренний (тонкий) слой содержит ГМК с циркулярной ориентацией. Наружный (толстый) слой образован продольными пучками ГМК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двентициальная оболочк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на волокнистой соединительной тканью и соединяет влагалище с окружающими структур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Матка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ат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представляет собой полый гладкомышечный орган грушевидной формы, уплощенный в переднее-заднем направлен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ина матки у нерожавших – 7-8см, у рожавших – 8-9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ирина – 4-5см в области дна, передне-задний размер – 2,5см, толщина мышечной стенки – 1,2с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сса матки – от 30 до 100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8748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5072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836640"/>
            <a:ext cx="8559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тка состоит из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ела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шейк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между которыми выделяется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ерешее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В норме тело матки и шейка находятся под углом открытым кпереди. В теле выделяют дно, переднюю, заднюю стенки, правое и левое ребра. Шейка матки обычно длиной 3 см имеет коническую форму и нерожавших и цилиндрическую – у рожавших женщин. Шейка делится на надвлагалищную и влагалищную ча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ость матки имеет форму треугольной щели, длина которой – 7-8с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Физиологическая гиперволемия беременных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25-48%  с 12нед и  д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0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6не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бъем плазм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50% 3900-4000мл (26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 беременности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бъем эритроцит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18% (при приеме железа – на 32%) и достигает 1650мл (у небеременной 1400м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щий объем внеклеточной жидкост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20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6,5 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Определенную роль в этой задержке жидкости играет альдостерон, секреция которого возрастает с 12-й не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ближается к первоначальному уровню спустя 2 нед после род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Строение стенки мат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енка матки представлена 3 слоями: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нутрен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эндометрий (однослойный цилиндрический эпителий, преврвщающийся во время беременности в децидуальную оболочку),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сред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миометрий, который представлен сплетением обильно кровоснабженных пучков гладкой мускулатуры,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наружны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серозный (периметрий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троение стенки матки:миометрий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миометрии различают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наружный сло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продольное направление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), сред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с циркуляторным и косым направлением волокон), и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внутренний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с продольным расположением волокон. Продольные пучки гладко-мышечных клеток наиболее выражены в дне и теле матки. Поперечно-расположенные пучки в дне матки представлены тонким слоем, толщина их значительно увеличивается в нижнем сегменте и шейке, области наружного и внутреннего зе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33256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аточные трубы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10-12см):   интерстициальная, перешеечная,   ампулярная, фимбриальная части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>
            <a:lum contrast="6000"/>
          </a:blip>
          <a:srcRect l="-953" t="-5" r="5743" b="0"/>
          <a:stretch/>
        </p:blipFill>
        <p:spPr>
          <a:xfrm>
            <a:off x="2050920" y="1773360"/>
            <a:ext cx="6408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Маточные трубы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: строен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енка маточной трубы делится на 4 слоя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ерозную оболочку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постоянную подсерозную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ышечную (состоящую из наружного и внутреннего продольного пучков и среднего циркулярного)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лизистую, образующую в просвете трубы продольно расположенные склад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Яичник (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3х2х1,5см )– парный орган. Располагается в углублении париетальной брюшины, называемом яичниковой ямкой. Форма яичника овоидная, он сплющен спереди назад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2017440"/>
            <a:ext cx="4608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редством 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собственных связо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яичники прикрепляются к углам матки. С помощью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подвешивающих связо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ни фиксируются к боковым стенкам таза. Яичник покрыт зародышевым эпителием, и лишь небольшая его часть располагается между листками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широкой маточной связки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упликатура брюшины, отходящая от заднего листка широкой связки, образует короткую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яичниковую брыжейку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Этот участок яичника называется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его воротам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>
            <a:lum contrast="6000"/>
          </a:blip>
          <a:srcRect l="-953" t="-5" r="5743" b="0"/>
          <a:stretch/>
        </p:blipFill>
        <p:spPr>
          <a:xfrm>
            <a:off x="4643280" y="1628640"/>
            <a:ext cx="4670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Физиологическое положение матки, труб и яичников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обеспечиваетс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подвешивающим, закрепляющим и поддерживающим аппаратами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К подвешивающему аппарат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ся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бственные связки яичник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ирокие связки матк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вешивающие связки яичник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углые  маточные связ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-514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49132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Широкие маточные связк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едставляют собой фронтально расположенную дупликатуру брюшины, соединяющуюся с передней и задней поверхностью матки и направляющуюся к боковым стенкам таза, где она переходит в париетальную брюшин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ь широкой маточной связки является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брыжейкой маточной труб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жду листками широкой связки заложен слой рыхлой клетчатки, разделенный фасциальной пластиной на два отдела: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верх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 ниж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 развитой артериальной и венозной сетью, а также с проходящим здесь мочеточником. Эта часть широкой связки носит название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главной, или кардинальной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5640" y="-2973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765000"/>
            <a:ext cx="83487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д передним листком широкой связки от передней поверхности матки по направлению к внутреннему отверстию пахового канала - проходит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руглая маточная связ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Длина ее в среднем 10— 15 см, толщина 3—5 см. Круглые связки проходят через внутренние отверстия паховых каналов, постепенно истончаются и, выходя из пахового канала, полностью разветвляются в подкожной жировой клетчатке. В круглых связках проходит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артерия круглой связки матк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отходящая от нижней надчревной артери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7280" y="-154440"/>
            <a:ext cx="7793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692280"/>
            <a:ext cx="8559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Собственная связ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яични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представляет собой короткий парный, но достаточно плотный фиброзно-гладкомышечный тяж, соединяющий нижний (маточный) конец яичника с матк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Подвешивающаяся связка яични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— также парное образование, начинающееся от латеральной части широкой маточной связки в области трубного конца яичника и трубы и переходящее в брюшину боковой стенки таза в области крестцово-позвоночного сочленения, в ней проходят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яичниковые артерия и вен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0920" y="0"/>
            <a:ext cx="8459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Олигоцитемическая гиповолеми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50752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изиологическая анемия беременны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иже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b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о 105-110г/л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32-34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д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иже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0,32-0,34л/л   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32-34нед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ижени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язкости крови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26-28нед, к моменту родов вязкость крови достигает нормального уровн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-2991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4920" y="620280"/>
            <a:ext cx="8559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К закрепляющему аппарат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относя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рдинальны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рестцово-маточ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узырно-маточны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узырно-лобковые связк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50720" y="-37008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4866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ардинальные связк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составляют нижнюю  часть «зоны уплотнения»широкой маточной связки, являющейся наиболее мощной в системе закрепляющего аппарат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рестцово-маточные связк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образованы преимущественно гладкомышечными и фиброзными волокнами и составляют заднюю часть «зоны уплотнения». От задней поверхности шейки матки, дугообразно охватывая с боков прямую  кишку, они  направляются к париетальному листку тазовой фасции на передней поверхности крестца. Верхняя часть связок приподнимает покрывающую их брюшину, образуя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прямокишечно-маточные складк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15640" y="-2991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620640"/>
            <a:ext cx="8280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К поддерживающему аппарату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относятся мускулатура тазового дна, представленна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диафрагмой таза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мочеполовой диафрагмой 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двух поперечно-полосатых мышц (седалищно-пещеристой и луковично-пещеристой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Анатомически полость малого таза разделяется на 3 этажа: брюшинный, подбрюшинный и подкожный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2017440"/>
            <a:ext cx="8559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Первый эта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условно ограничен сверху пограничной линией и снизу тазовой брюшиной. Здесь располагаются верхняя часть мочевого пузыря, большая часть матки, придатки, широкие маточные связки и верхний участок влагалищ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5640" y="-2271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280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рюшинный отдел таза является нижним отделом брюшной полости. Переходя с передней брюшной стенки на мочевой пузырь брюшина образует здесь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оперечную пузырную складк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далее брюшина переходит на переднюю поверхность матки, создавая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узырно-маточное углубл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месте перехода брюшины с матки на  прямую кишку брюшина формирует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ямокишечно-маточное углубл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две боковые складки, идущие в передне-заднем направлении к крестцу. Они носят название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ямокишечно-маточных складок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содержат пучки мышечно-фиброзных волокон, являющихся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кресцово-маточным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вязк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-227520"/>
            <a:ext cx="7793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692280"/>
            <a:ext cx="8559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Второй этаж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ограничен тазовой брюшиной, а снизу листком тазовой фасции, покрывающим сверху мышцу, поднимающую задний проход. Здесь располагаются внебрюшинные отделы мочевого пузыря и прямой кишки, шейка матки , большая часть влагалищ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-2991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841536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Третий этаж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ограничен сверху тазовой диафрагмой , а снизу – кожными покровами. Здесь находятся конечные отделы моче-половой системы и кишечной трубки. Сюда же относится седалищно-прямокишечная ямка, расположенная сбоку от промежностного отдела прямой кишк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93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Кровоснабжение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46688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нутренние половые органы снабжаются за счет сосудов, отходящих от внутренней подвздошной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ртерии 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маточная артери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и от аорты 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яичниковая артери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>
            <a:lum contrast="6000"/>
          </a:blip>
          <a:srcRect l="0" t="119" r="2910" b="0"/>
          <a:stretch/>
        </p:blipFill>
        <p:spPr>
          <a:xfrm>
            <a:off x="4846680" y="1197000"/>
            <a:ext cx="42973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9328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Кровоснабжение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415360" cy="51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Яичникова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артерия ответвляется от аорты ниже места отхождения почечной артерии, перекрещивается с тазовым отделом мочеточника, вступает в подвешивающую  связку яичника, подходит к воротам яичника и дает 2 ветви –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яичниковую и трубну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Кровоснабжение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631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аточная артери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ходит от внутренней подвздошной , подходит к боковой поверхности матки на уровне внутреннего зева, проходит вдоль ребра матки, отдавая мелкие горизонтальные ветви к матке ( дно, трубная, яичниковая ветви). От маточной отходит вниз влагалищная артер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 внутренней половой артерии отходят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омежностная артер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адняя артерия половых губ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Продолжением  внутренней половой артерии явл.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ртерия клито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ртериальное давление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Д снижается во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иместре на 5-15мм рт ст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a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28не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иместре  АД соответствует уровню, отмечаемому до беремен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Д в положении на спине соотвествует норме, а в положении – лежа на боку  ниже нормы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Венозный отток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559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личают три основных пути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венозного отто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т мат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ерх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в яичниковую вену, которая направляется в забрюшинное пространство и впадает в почечную вену слева, справа – в нижнюю полую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н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реднего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дела образуют маточную вену, впадающую во внутреннюю подвздошну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иж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тдел – собирает венозную кровь от шейки матки и влагалища (влагалищно-маточное сплетение). Это сплетение , сливаясь с венами мочевого пузыря, образует мощное пузырно-влагалищное сплете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214200"/>
            <a:ext cx="8259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Иннервация матки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559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тка снабжена нервными волокнами, отходящими от тазового сплетения, образованного нервными волокнами поясничного отдела симпатического ствола, нижнего подчревного сплетения и ветвями крестцового сплет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7584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Вегетативная иннервация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631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дренергическая иннерваци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медиатор — норадреналин) преобладает в продольных пучках среднего (сосудистого) слоя миометрия, а также вокруг сосудов миометрия. Различаю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ва типа адренорецепторо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мембране ГМК. альфа-адренорецепторы, ответственные за сокращение ГМК, располагаются преимущественно на мембранах продольно расположенных пучков; бетта-адренорецепторы, активация которых приводит к расслаблению ГМК, находятся на мембранах циркулярно расположенных пучков ГМ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Холинергическая иннерваци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медиатор — ацетилхолин) преобладает в циркулярно и спиралеобразно расположенных ГМК нижнего сегмента и шейки матки, в меньшей степени — в подсосудистом слое, прилегающем к эндометри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-1544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4920" y="692280"/>
            <a:ext cx="8559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лотность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льфа- адренорецепторов зависит от содержания эстрогенов и простагландинов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етта-адренорецепторов — от концентрации прогестерон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субплацентарной зоне и внутреннем слое миометрия, непосредственно прилегающих к полости матки,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рог возбудимост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ше, чем в других слоях; поэтому мышцы внутреннего слоя сокращаются слабее. Это предохраняет плод от чрезмерного сдавления, предотвращает нарушение маточно-плацентарного кровотока и преждевременную отслойку плаценты от стенки мат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переменное возбуждение симпатических и парасимпатических волокон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зывает сокращение продольно расположенных мышечных пучков матки при одновременном активном расслаблении циркулярных и спиралеобразных, что приводит к постепенному раскрытию шейки матки и продвижению плода по родовому канал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Общее периферическое сопротивление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С становится наиболее низким (снижается на 28,9%)  в 28- 32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д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оследующие сроки беременности ОПС  повышается, но остается  на 10,4% ниже, чем у небеременны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чительное снижение ОПСС на 10,4% связываю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с образованием маточного круга кровообращения с низким периферическим сопротивлением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с сосудорасширяющим действием эстрогенов и прогестер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Венозное давлен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ышение ЦВД 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иместре в среднем 8 см вд ст (4-12), у небеременных – 3,6 с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вление в венах верхних конечностей не изменяет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вление в венах нижних конечностей увеличивается  ( 7-10 см вд ст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индром сдавления  нижней полой вены(постуральный гипотонический синдром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7—14% случаев после 30—32 не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индром сдавления нижней полой вены или «гипотензивный синдром на спине»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овождается падением систолического давления на 25—30 мм рт. ст. и более. Через 2—3 мин появляются симптомы сердечно-сосудистой недостаточности, иногда с потерей созн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мощь: беременную необходимо немедленно перевести в вертикальное положение или повернуть на бок, либо сместить матку в сторон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тяжной синдром может привести к отслойке нормально прикрепленной плаценты, отеку легких во время кесарева сечения. Отек легких возникает вслед за извлечением плода, что объясняется быстрым увеличением венозного притока к сердцу после устранения сдавления нижней полой вен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09:00:49Z</dcterms:created>
  <dc:creator>Iggy</dc:creator>
  <dc:description/>
  <dc:language>en-US</dc:language>
  <cp:lastModifiedBy>Iggy</cp:lastModifiedBy>
  <dcterms:modified xsi:type="dcterms:W3CDTF">2007-01-24T16:54:15Z</dcterms:modified>
  <cp:revision>91</cp:revision>
  <dc:subject/>
  <dc:title>Адаптационные изменения при физиологической беременности</dc:title>
</cp:coreProperties>
</file>